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286-D44D-4084-8F96-64531621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A0A-3ADC-42A4-9E22-65949F6D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5FA-4AB1-4065-9B5C-5D35F84E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B41-2818-4736-9786-58FAC150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96512-304B-4F7B-B7A1-9DE626F4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52F38-A318-490A-8202-AB0BDD71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0B59F-3D28-4211-B3F6-6741FCF4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71D18-2A68-493F-B122-7D6B4CCC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7C361-355A-4DE8-933F-D893E613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F1639-0FA7-4F91-B0D6-035A6906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DDFCE-89EA-4652-BEBB-393713F4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9BA-D5BE-42C4-A06D-BD8FDAA1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A644F-81A5-4773-80F0-64945CC0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DD5B4-C76D-4605-87E7-D7109066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0A465-1881-4078-B612-658A4EEF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EE25B-93C7-4C76-9B68-CC8C57AF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0268F-625D-41D3-BBBC-CF8C873F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A50-E365-47C7-86E3-28A0813B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9AD-1D50-43CF-94E3-F6D530A7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DC0-08EE-4ABA-9BC8-8E790DAE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CE38-7ABA-473F-BB9D-4589F5C1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C1A-4BDE-4216-9A5A-F22D596D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1C4-3CC6-40A5-ADD4-62566B70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FE9-4080-4E1C-99AC-2B3A8DE8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432E-646E-473E-8FC0-E707E75EA20B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33A7-8363-489E-A34D-F675AAA4811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785520"/>
            <a:ext cx="88930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II- Phương thức thuê tàu ch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- Khái niệ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àu chợ là tàu chở hàng thường xuyên chạy trên một tuyến đường nhất định, ghé qua những cảng nhất định theo một lịch trỡnh định trướ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huê tàu chợ là việc chủ hàng thông qua đại lý yêu cầu giành một chỗ trên tàu để chuyên chở hàng hóa từ nơi này đến nơi khá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Booking note </a:t>
            </a:r>
            <a:r>
              <a:rPr b="1" i="1" lang="vi-V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 giấy lưu khoang (giấy lưu cước tàu chợ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4.4- căn cứ vào việc đã xếp hàng hay chư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đã xếp (shipped on board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nhận để xếp (received for shipment BL, taken in charg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4.5- một số loại BL và chứng từ vận tải khá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do người giao nhận cấp (FBL, FCT, Hous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theo hợp đồng thuê tàu (charter party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đã xuất trỡnh (surrendered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có thể thay đổi (switch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L thuyền phó (mate’s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Giấy gửi hàng đường biển (seawaybil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đến chậm (Stal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5- Nội du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5.2- Mặt sau: các điều khoản in sẵn của 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ã</a:t>
            </a: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ng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oth to blame collision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ffffff"/>
                </a:solidFill>
                <a:latin typeface="Tahoma"/>
              </a:rPr>
              <a:t>General average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guồn luật áp dụ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II- Phương thức thuê tàu ch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2- đặc đi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àu chạy theo một lịch trỡnh định trướ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Cước phí được công bố từ trướ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F = f + I + O + S (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ứng từ vận tải B/L (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ill of La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Áp dụng khi nà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Bill of lading, Ocean bill of lading, marine bill of l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ahoma"/>
              </a:rPr>
              <a:t>1- Khái niệ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Là chứng từ vận tải mà người chuyên chở cấp cho người gửi hàng khi nhận hàng để xếp hoặc xếp hàng lên tà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2- Cách phát hành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ược phát hành thành các bản gốc và bản copy (bản sa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ột bộ BL thường gồm 3 bản gốc và nhiều bản s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Số bản copy được cấp theo yêu cầu của người gửi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Chức nă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ằng chứng của hợp đồng vận tả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iên lai nhận hàng để chở của người chuyên ch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Là chứng từ sở hữu hàng hóa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document of tit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Chức nă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Ký hậu BL: là việc ký và đóng dấu vào mặt sau của tờ BL, qua đó tài sản được chuyển từ sở hữu của người này sang người khá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ó 3 cách ký hậ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Ký hậu đích da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Ký hậu theo lệ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Ký hậu vô da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1- căn cứ vào người hưởng thụ trên BL (hoặc khả năng lưu thông của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đích danh (straigh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theo lệnh (to order BL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vô danh (to bearer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2- căn cứ vào ghi chú trên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 hoàn hảo (clean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BL không hoàn hảo (unclean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7138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3- căn cứ vào hành trỡnh vận tả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i thẳng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direc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 chở suốt (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hrough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a phương thức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multimodal transport BL, intermodal transport BL, combined transport BL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nh Huong</cp:lastModifiedBy>
  <dcterms:modified xsi:type="dcterms:W3CDTF">2010-12-18T21:57:57Z</dcterms:modified>
  <cp:revision>46</cp:revision>
  <dc:subject/>
  <dc:title>PowerPoint Presentation</dc:title>
</cp:coreProperties>
</file>